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33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27A-09C4-4797-A211-8EA2FAFC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183-FB53-43EC-B9F1-BBA3B3AB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DF4-8507-46E1-BD4E-D3633781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EE2-1D60-431D-9B8F-833EA375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04E-E4DA-4998-A7A6-BB26E03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E7F-F5EF-4721-AE12-19E3B959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E38-C5FB-418F-90E8-D30D22AE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B18-78C6-452A-9B9E-73CB570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017-C544-4D19-BC42-1431DE4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02B-FCEB-419E-91DA-8DA8D6DB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1E1-8AC9-4F34-B5FE-40136AC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F36-AABD-496E-8C07-BD1BC70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23B-2678-4FDB-9FBF-EA2DF31D7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they stop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259240" cy="413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s patrolled the streets – they were even on the sniff for the smell of roast go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716280"/>
            <a:ext cx="2305080" cy="2233800"/>
          </a:xfrm>
          <a:prstGeom prst="wedgeEllipseCallout">
            <a:avLst>
              <a:gd name="adj1" fmla="val 16874"/>
              <a:gd name="adj2" fmla="val -78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that I can sm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4724280"/>
            <a:ext cx="2519280" cy="1800360"/>
          </a:xfrm>
          <a:prstGeom prst="wedgeEllipseCallout">
            <a:avLst>
              <a:gd name="adj1" fmla="val -81759"/>
              <a:gd name="adj2" fmla="val -1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! As if I eat roast go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630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y, hay? Gedd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urita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 Gi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ll-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-for-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se-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y-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-Lord-Is-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estling-with-the-dev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else was ban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1282680"/>
            <a:ext cx="6840720" cy="521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70028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r-b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056720" cy="529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1125360"/>
            <a:ext cx="316836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ck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454040"/>
            <a:ext cx="8351640" cy="473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4365720"/>
            <a:ext cx="3887640" cy="20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se-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66760" y="1341360"/>
            <a:ext cx="4943520" cy="511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1628640"/>
            <a:ext cx="273672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est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1224000"/>
            <a:ext cx="6553080" cy="53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90792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-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u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1409760"/>
            <a:ext cx="5975280" cy="5089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4581360"/>
            <a:ext cx="367164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ev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30976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if that makes you want to scream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97360"/>
            <a:ext cx="2916360" cy="1655640"/>
          </a:xfrm>
          <a:prstGeom prst="wedgeRoundRectCallout">
            <a:avLst>
              <a:gd name="adj1" fmla="val 66768"/>
              <a:gd name="adj2" fmla="val 109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@#&amp;*$%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653000"/>
            <a:ext cx="349236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swearing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n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fact...on Sundays it was wor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6400" y="1600200"/>
            <a:ext cx="33894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above all...not going t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363680"/>
            <a:ext cx="77058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not as if Puritan churches were comfortable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460520"/>
            <a:ext cx="763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d the punish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4760" y="2325600"/>
            <a:ext cx="430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1795320"/>
            <a:ext cx="5759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724040"/>
            <a:ext cx="6408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42920" y="1650960"/>
            <a:ext cx="691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1747800"/>
            <a:ext cx="684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86120" y="1268280"/>
            <a:ext cx="34225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00000" y="692280"/>
            <a:ext cx="756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8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p!</a:t>
            </a:r>
            <a:endParaRPr b="0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8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62320" y="1268280"/>
            <a:ext cx="4421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 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90720" y="126828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....enjoy your Christmas holiday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76400" y="1557360"/>
            <a:ext cx="3000600" cy="5300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720" y="2852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their sak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7640" y="404640"/>
            <a:ext cx="5324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7000" y="1125360"/>
            <a:ext cx="4219560" cy="573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1052640"/>
            <a:ext cx="3313080" cy="2158920"/>
          </a:xfrm>
          <a:prstGeom prst="wedgeEllipseCallout">
            <a:avLst>
              <a:gd name="adj1" fmla="val -67439"/>
              <a:gd name="adj2" fmla="val 4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’m Oliver Cromwell, and I’m in charge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4076640"/>
            <a:ext cx="3382920" cy="2160720"/>
          </a:xfrm>
          <a:prstGeom prst="wedgeEllipseCallout">
            <a:avLst>
              <a:gd name="adj1" fmla="val -54504"/>
              <a:gd name="adj2" fmla="val -61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hristma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S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How Serious Were the Purita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earning Obj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what life was like when Puritans were in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uritans were a very strict (extreme) type of Protestants who were around in the Sixteenth and Seventeenth Cent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lieved that the Church had become corrupt and sin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anted to purify religion by using the Bible as the word of law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why ban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mas was a human invention, not in the B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was too closely linked to old Pagan (Pre-Christian)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of a ‘mass’ for Christ just smelled of Catholic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t was banned in England in 164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t wasn’t the only reas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itans also hated th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ut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unken-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32000" y="2079720"/>
            <a:ext cx="5554800" cy="3809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79640" y="609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like this cat – they were not party anim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20:50Z</dcterms:created>
  <dc:creator>Administrator</dc:creator>
  <dc:description/>
  <dc:language>en-US</dc:language>
  <cp:lastModifiedBy>Susan Gregory</cp:lastModifiedBy>
  <dcterms:modified xsi:type="dcterms:W3CDTF">2007-11-08T06:01:40Z</dcterms:modified>
  <cp:revision>5</cp:revision>
  <dc:subject/>
  <dc:title>How Serious Were the Puritans?</dc:title>
</cp:coreProperties>
</file>